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0.png" ContentType="image/png"/>
  <Override PartName="/ppt/media/image5.png" ContentType="image/png"/>
  <Override PartName="/ppt/media/image2.gif" ContentType="image/gif"/>
  <Override PartName="/ppt/media/image13.jpeg" ContentType="image/jpe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.png" ContentType="image/png"/>
  <Override PartName="/ppt/media/image14.pct" ContentType="image/x-pict"/>
  <Override PartName="/ppt/media/image16.jpeg" ContentType="image/jpeg"/>
  <Override PartName="/ppt/media/image15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5840" y="866124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E18F-BF26-46F9-9B53-FFABFF8F0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In this view of the building there is a line of symmetry through the centre of the tomb from top to bottom. It was completed in 1630 by the Indian ruler Shahs Jahan as a tomb for his favourite wife Mumtaz Mahal who died as a result of giving birth to their 14th child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To build this tomb it took 20 000 workers, 20 years (Encarta 97) and it is rumoured that they used 40 000 elephants to transport the materials.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99"/>
                </a:solidFill>
                <a:latin typeface="Century Gothic"/>
              </a:rPr>
              <a:t>Is there a pattern here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could you prove that a square really does have 4 lines of symmetry and not 2.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A rectangle has 4 lines of symmetry. True or False? How could you prove it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     What pattern can you see emerging on this page?</a:t>
            </a: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ow would you define the term 'line symmetry'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        Why might some people see line symmetry as a thing of beauty?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This type of symmetry is also called reflectional symmetry as the two parts reflect/match along each side of a dividing line ( or axis 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7600" cy="341784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There are also many examples of symmetry inside the human body e.g. the lungs, the kidneys, the brain, the skull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6F186-70FE-473F-9040-B9520EC083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9731-C80C-4536-ADE6-D55C10920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6238-69B7-4CB2-8BD4-578E65262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8EA99-39A7-4C00-9F89-F384D986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9AE2-64B1-47FE-A324-3593C8047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1EA6-CE0B-4682-A330-0837FC8A1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5922A-6C0C-49E4-9C27-657B4761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D697A-B3CB-4506-ADE0-FEB0499C8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41467-0CBE-4E57-85B5-3E8F157A9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428A2-ECDE-42F6-93BA-F7A32BEB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449A3-E438-4856-A21F-555BFFA85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CFA2-2AC9-4241-B3B0-026EC56EF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92459-F47E-48DA-A3A7-AA53516A5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C8FF3-89E1-44E3-9F84-0688A4D8B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03428-76DA-4ABC-8621-E699B1098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D0783-5B78-40BC-9067-49E1705B1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53556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699880" y="28195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37160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53556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699880" y="37353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010D5-82B3-439D-9A46-AB92DC364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D0F1-242F-4C19-8FEB-69A3BD8A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209D1-AA84-43B1-BC97-C2156288A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BA7C3-1E5D-46FB-95D8-B3523BAA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096FC-599B-439F-A4AF-01BCBF5CD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B5F9-ECBB-495B-8038-3F21509DC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51560" y="37353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F107-69D6-41FC-B1FD-F8CC986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28195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371600" y="37353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6547-56DE-49F7-B5D0-8D33CF2B6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8A5AF-1AC3-4B9A-953B-B792E4913E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body"/>
          </p:nvPr>
        </p:nvSpPr>
        <p:spPr>
          <a:xfrm>
            <a:off x="685800" y="1641240"/>
            <a:ext cx="7772400" cy="44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0" y="0"/>
            <a:ext cx="8478720" cy="6173640"/>
            <a:chOff x="0" y="0"/>
            <a:chExt cx="8478720" cy="6173640"/>
          </a:xfrm>
        </p:grpSpPr>
        <p:sp>
          <p:nvSpPr>
            <p:cNvPr id="47" name=""/>
            <p:cNvSpPr/>
            <p:nvPr/>
          </p:nvSpPr>
          <p:spPr>
            <a:xfrm>
              <a:off x="0" y="0"/>
              <a:ext cx="6132600" cy="6173640"/>
            </a:xfrm>
            <a:custGeom>
              <a:avLst/>
              <a:gdLst/>
              <a:ahLst/>
              <a:rect l="l" t="t" r="r" b="b"/>
              <a:pathLst>
                <a:path w="3863" h="3889">
                  <a:moveTo>
                    <a:pt x="3862" y="3418"/>
                  </a:moveTo>
                  <a:lnTo>
                    <a:pt x="457" y="0"/>
                  </a:lnTo>
                  <a:lnTo>
                    <a:pt x="0" y="0"/>
                  </a:lnTo>
                  <a:lnTo>
                    <a:pt x="0" y="481"/>
                  </a:lnTo>
                  <a:lnTo>
                    <a:pt x="3394" y="3888"/>
                  </a:lnTo>
                  <a:lnTo>
                    <a:pt x="3862" y="3418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365120" y="0"/>
              <a:ext cx="5388120" cy="5116680"/>
            </a:xfrm>
            <a:custGeom>
              <a:avLst/>
              <a:gdLst/>
              <a:ahLst/>
              <a:rect l="l" t="t" r="r" b="b"/>
              <a:pathLst>
                <a:path w="3394" h="3223">
                  <a:moveTo>
                    <a:pt x="370" y="0"/>
                  </a:moveTo>
                  <a:lnTo>
                    <a:pt x="3393" y="3036"/>
                  </a:lnTo>
                  <a:lnTo>
                    <a:pt x="3208" y="3222"/>
                  </a:lnTo>
                  <a:lnTo>
                    <a:pt x="0" y="0"/>
                  </a:lnTo>
                  <a:lnTo>
                    <a:pt x="37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71840" y="0"/>
              <a:ext cx="4538520" cy="4057560"/>
            </a:xfrm>
            <a:custGeom>
              <a:avLst/>
              <a:gdLst/>
              <a:ahLst/>
              <a:rect l="l" t="t" r="r" b="b"/>
              <a:pathLst>
                <a:path w="2859" h="2556">
                  <a:moveTo>
                    <a:pt x="630" y="0"/>
                  </a:moveTo>
                  <a:lnTo>
                    <a:pt x="2858" y="2238"/>
                  </a:lnTo>
                  <a:lnTo>
                    <a:pt x="2543" y="2555"/>
                  </a:lnTo>
                  <a:lnTo>
                    <a:pt x="0" y="0"/>
                  </a:lnTo>
                  <a:lnTo>
                    <a:pt x="63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4849920" y="0"/>
              <a:ext cx="3628800" cy="3367080"/>
            </a:xfrm>
            <a:custGeom>
              <a:avLst/>
              <a:gdLst/>
              <a:ahLst/>
              <a:rect l="l" t="t" r="r" b="b"/>
              <a:pathLst>
                <a:path w="2286" h="2121">
                  <a:moveTo>
                    <a:pt x="0" y="0"/>
                  </a:moveTo>
                  <a:lnTo>
                    <a:pt x="2111" y="2120"/>
                  </a:lnTo>
                  <a:lnTo>
                    <a:pt x="2285" y="1945"/>
                  </a:lnTo>
                  <a:lnTo>
                    <a:pt x="348" y="0"/>
                  </a:lnTo>
                  <a:lnTo>
                    <a:pt x="0" y="0"/>
                  </a:lnTo>
                </a:path>
              </a:pathLst>
            </a:custGeom>
            <a:solidFill>
              <a:srgbClr val="0066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CE3D4-DEF5-44DF-91E4-B9160A280A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schools.ash.org.au/stkierans-manly/Classes/Yr6/6B/Symmetry/page1.html#symindex" TargetMode="External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4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Symmetry:</a:t>
            </a:r>
            <a:br>
              <a:rPr sz="6000"/>
            </a:br>
            <a:r>
              <a:rPr b="0" lang="en-US" sz="6000" spc="-1" strike="noStrike">
                <a:solidFill>
                  <a:srgbClr val="ffff00"/>
                </a:solidFill>
                <a:latin typeface="Times New Roman"/>
              </a:rPr>
              <a:t>A Visual Presentation</a:t>
            </a:r>
            <a:br>
              <a:rPr sz="6000"/>
            </a:br>
            <a:endParaRPr b="0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6868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Point Presentation created by Mrs. Gamache using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e collection of web pages created by the Adrian Bruce and students of 6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http://www.adrianbruce.co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REFLECTION IN WATER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2437920"/>
            <a:ext cx="41911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If an object is reflected in water it is considered to have line symmetry along the waterline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572000" y="2819520"/>
            <a:ext cx="3951360" cy="34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The Taj Mahal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04920" y="4724280"/>
            <a:ext cx="853416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ymmetry exists in architecture all around the world.  The best known example of this is the Taj Mahal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90720" y="990720"/>
            <a:ext cx="716256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28240" y="-36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s photograph shows 2 lines of symmetry. One vertical, the other along the waterlin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entury Gothic"/>
              </a:rPr>
              <a:t>(Notice how the prayer towers, called minarets, are reflected in the water and side to side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5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2D Shapes and Sym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fter investigating the following shapes by cutting and folding, we found: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04560" y="41148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n equilateral triangle has 3 internal angles and 3 lines of symmetry.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62320" y="304920"/>
            <a:ext cx="358128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380880" y="4114800"/>
            <a:ext cx="830592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square has 4 internal angles and 4 lines of symmetry.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6338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609120" y="4343400"/>
            <a:ext cx="81536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pentagon has 5 internal angles and 5 lines of symmetry.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2362320" y="3808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33160" y="4723920"/>
            <a:ext cx="83818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hexagon has 6 internal angles and 6 lines of symmetry 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2286000" y="228600"/>
            <a:ext cx="42670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4038120"/>
            <a:ext cx="830592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   </a:t>
            </a: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a regular octagon has 8 internal angles and 8 lines of symmetr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4568"/>
                </a:solidFill>
                <a:uFillTx/>
                <a:latin typeface="Century Gothic"/>
                <a:hlinkClick r:id="rId1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133720" y="152280"/>
            <a:ext cx="419076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ine Symmet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26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hape has line symmetry when one half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of it is the mirror image of the other half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ymmetry exists all around us and many people see it as being a thing of beaut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3276720" y="2209680"/>
            <a:ext cx="20970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entury Gothic"/>
              </a:rPr>
              <a:t>Is a butterfly symmetrical?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362320" y="2133720"/>
            <a:ext cx="4152960" cy="31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Line Symmetry exists in nature but you may not have noticed.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Century Gothic"/>
              </a:rPr>
              <a:t>At the  beach there are a variety of shells with line symmetry.</a:t>
            </a:r>
            <a:r>
              <a:rPr b="0" lang="en-US" sz="48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800"/>
            </a:b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2895480" y="2819520"/>
            <a:ext cx="3314880" cy="331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Under the sea there are also many symmetrical objects such as these crabs</a:t>
            </a: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Century Gothic"/>
              </a:rPr>
              <a:t>and this starfish.</a:t>
            </a:r>
            <a:r>
              <a:rPr b="0" lang="en-US" sz="4000" spc="-1" strike="noStrike">
                <a:solidFill>
                  <a:srgbClr val="0066ff"/>
                </a:solidFill>
                <a:latin typeface="Century Gothic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981080" y="2543040"/>
            <a:ext cx="2210040" cy="15717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5181480" y="2544840"/>
            <a:ext cx="2095560" cy="1509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3733920" y="4800600"/>
            <a:ext cx="1752480" cy="175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Century Gothic"/>
              </a:rPr>
              <a:t>Animals that have Line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380520" y="5409720"/>
            <a:ext cx="84582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Here are a few more great examples of mirror image in the animal kingdo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6477120" y="1752480"/>
            <a:ext cx="1714320" cy="127980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1531800" cy="15318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3657600" y="2438280"/>
            <a:ext cx="1486080" cy="8924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2286000" y="3581280"/>
            <a:ext cx="1200240" cy="17146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5"/>
          <a:stretch/>
        </p:blipFill>
        <p:spPr>
          <a:xfrm>
            <a:off x="5257800" y="3657600"/>
            <a:ext cx="141120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THESE MASKS HAVE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2819520" y="3657600"/>
            <a:ext cx="6324480" cy="320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se masks have a line of symmetry from the forehead to the chin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 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human face also has a line of symmetry in the same plac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066680"/>
            <a:ext cx="384012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fffff"/>
                </a:solidFill>
                <a:uFillTx/>
                <a:latin typeface="Times New Roman"/>
              </a:rPr>
              <a:t>Human Symmetry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647960" y="1904760"/>
            <a:ext cx="42670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'Proportions of Man' is a famous work of art by Leonardo da Vinci that shows the symmetry of the human form.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391644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3T17:51:32Z</dcterms:created>
  <dc:creator>TTI, User</dc:creator>
  <dc:description/>
  <dc:language>en-US</dc:language>
  <cp:lastModifiedBy>STAFF TGHS</cp:lastModifiedBy>
  <dcterms:modified xsi:type="dcterms:W3CDTF">2009-09-14T02:30:36Z</dcterms:modified>
  <cp:revision>12</cp:revision>
  <dc:subject/>
  <dc:title>Line Symmetry</dc:title>
</cp:coreProperties>
</file>